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94BD-C684-4E36-9678-F1E288EAEB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9F0C-4F39-4808-B761-CA8CEF12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F1B203-9DB5-458A-9658-277B5DA6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134E9-C0EB-4D2F-A707-DAE80A93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42673-5FAD-4AAC-B456-B5734CB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3A1EE-3CF9-4D7C-B17C-3CD1F1E6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5940CC-FFC4-43B1-8FDF-4CCC9550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161340-7755-4FB5-9376-7771131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78AAC-7F7D-4F9B-B8C4-FE40A91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C07D66-2979-4E54-AFD4-CE84EB7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DBCCF2-3269-4A83-82FF-FE7E6737A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FDDD-F87E-4DF7-BF3F-2099832C9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5FD2-0CF4-4A46-8B26-3885C70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4DC17-90D4-4CFF-B0A2-B9C98588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CD2C6-BB09-4EC1-AA17-FA3EBF39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03FA-9892-4061-90F5-0E4869B3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945D-80A8-4AB3-B1F8-DED4F4A6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498B3-1791-4306-97A0-2CD3BE21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89525-8D68-449F-B641-3BB2ED87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530E-8A11-4CFB-A35C-C31B233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9D36B-CD08-4A6C-8FD2-47D86D3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CA64-CFF8-4B29-908E-73C216E2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82D3-A968-4CEE-A7D9-4C643D2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229F-C818-4305-B210-815E15844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9DE3-A811-486F-AF96-AF628B24DE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3EC53-7D0C-4CC2-8CF7-44D1D1CBA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08312-D3E4-4DFA-841E-70BB100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59524-D6C4-4A76-B03A-65641E3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993D7-55D2-4A8B-854E-D3712D84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CFB47-11A5-4058-B273-AD97F7FB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88E84A-C8F7-42E3-B5CC-B29D8F7C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A9F6B-30D2-4A4F-8955-6265FA1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9C6E6-4F04-47A7-8477-50559F2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E58F1-5BE4-4FCC-9C1D-A8A70406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5CDCD-ED99-460A-8525-B8A9DA87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2E9216-FDE6-48D8-BC54-AF7C397B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6F53E-86B2-46C1-9E8A-F0659A5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69117-3C1A-4491-A1B6-1CEA46357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B0D01-1287-4D73-BFC0-8B682301E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B36B9-29D3-47E3-BF00-0E6ED46E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87094-489B-4C05-9D82-30173D7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19435-03A7-4663-AACE-AA9F173F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2F79C-E12D-4C24-8192-A78C874A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C7E4A-B4C8-40A4-89E3-5E7C689E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7AE19-C0C4-457A-A995-0001489D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EFB07-7B1B-42DD-9A5E-C542593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19653-90C8-4C8B-A6ED-7BF07B41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31B23-5D23-4233-8222-70ED1AA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A184C-B2C4-498F-9EAA-EF39F093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94E0E-7E38-4F9F-BE45-C9B2388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34A4B-FA12-41B8-9D08-43A3ACD22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5AC2-9F25-40ED-947C-27BF2A3130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C53D-154B-4A53-91A7-2031E602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21D6-72E3-4895-9FF5-211AC0E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75DE9-053F-460D-BBFB-B98FEFE1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C6CB1-5218-4E05-B160-2C55F491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1624A-BED1-49E8-9A43-07EB846B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BCBB3-0848-480E-9282-BD9B270E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285FB-8FC9-4C78-A8A5-9EDBAF9D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E28D3-1ADD-45CC-8655-0E90C9C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456D1-E86B-486B-904F-F4E2D1F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830D-4A67-4534-8947-69441E8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A1DA5-E491-4805-A935-2381AAC9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C1C0-ADC2-4EB9-9552-6959204AD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AFA22-7E5A-4B5E-A738-F9A2DAE0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8E78C-4127-403D-9214-0E13349E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CB9B7-B67A-4778-8154-664C505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B1D8A-A67A-4E9D-85A2-3CE2012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B20DA-EDDB-4518-B977-B1242D28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204C7-5E87-4372-B83E-3D76AC6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6DEE1-49AE-4248-BF2A-6D42E8EA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0F9EC-137A-48FC-BA74-CE95C81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EC542-78A9-4EAE-91F6-FB803A3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F9B47-CC50-44A9-9532-D22343BA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699DA-90F1-4CA9-9F5A-6A7E6B5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058BF-6509-4A5D-9DC7-53CB3C88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A72BC-2E60-49E9-A215-231706BF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2F1E4-65B9-4343-9CE4-A9E54D0A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ED64E-CE2C-49DF-A7E3-A2C8666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6A1AB-0073-46B9-B584-861E2F0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519D8-28EB-426A-A308-D20D625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75CC3-5106-43A0-B642-0A17CE3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0C911-EE05-41A1-8F01-AA0A216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B79F-E042-4022-A4F0-C592DA9A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C890D-6383-4CB2-B9E6-A1A5070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5DA51-79CE-41E3-BFA6-20DEF53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301A2-021C-411D-AE4D-EC2E1CC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A910-57A8-41D1-8947-6BF1191C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7AAC7-2860-40EC-BB7D-1F22534B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28E5-A4D1-474D-85C0-112E102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858E-D274-4544-837E-77E2B317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90B5A-670B-4414-B2B6-4EBAF3C3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574DD-BB31-456A-A658-AC526C99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B8D73-EF02-400C-8B03-802C94FC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76954-5606-4956-8FB3-2BD7221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5DB30-1589-4949-AB3A-5DB9183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33C43-2F0C-4FD1-95A0-F9689AF0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A9A86-5EDC-4435-8168-4730381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EF34E-FA70-4C09-8355-B08C9B9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425BE-71A4-4CDF-B6E8-48515FF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2C578-999A-4583-A8D7-70EA1D9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A367A-8270-4D0B-A2F7-7699C776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7EDFF-B760-4441-B038-660A7A1A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FE47E-6E41-4C0A-AACB-8ED3D3E1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A4126-FC45-472F-A9CE-6F049134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D6F40-A07C-48D3-AC53-B2DBAA1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9CD03-26B6-4DFA-B47B-BF139C8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03FEE-9755-4CCE-BFD2-78661B5F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41C33-681A-434D-84AF-8B4937D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B70DF-C6BD-4DD7-A841-4ECB7954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C1BA8-EF10-4E54-9DC6-2C0F159C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A466-04F4-499F-A297-F61DD1D5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4FC9-52C5-4274-8D5A-08DE1DB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C941A-1A11-445E-A01E-054E83D6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1DEEA-A7FB-4AEA-860E-BE9D02F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AF8B0-2638-4CC0-83A2-B4F9504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0E61D-6E4C-49E6-8628-D60DD161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E2D6C-4B6A-445E-B617-3EDB443F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F62C2-658B-40BB-99C1-132B13B1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04A62-E329-4770-9B9B-893FF009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C208D-9A55-4F39-AB72-45271921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F10C9-F9AE-4A6B-8F7C-2F0BA66D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F00BF-37F3-44C6-B12C-A2006F0C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A260-85FC-4E86-B2F9-28A8D9B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ACB14-EFE5-4603-BD37-1064DE0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8397A-A549-4E31-B2D2-09F0638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23F82-D9BB-4FFD-960E-5036881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C4FEA-E927-4B59-9029-709FE6E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19343-573D-4241-9506-CC87053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20529-2033-4BF8-8438-34F6B89A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744A2-AB89-46A3-B1F9-CF0730E5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34679-664C-4214-AA72-C9BBB81C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95760-6D97-4425-A77F-F77EAA9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A9B78-53D0-45E4-A1A2-2708E29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8475-39AF-427F-BDB7-6D161E3A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AD4B7-6250-49EC-B841-690686D4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ED956-7405-407C-9F13-09CB7B14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F896D-1A82-444D-8CB3-98BC9A7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62F99-93F8-4A24-8CC8-8E4B746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8A447-1C78-4099-A5BF-575222F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FCA77-9014-42BA-8492-EC44970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144FC-2611-4152-8E07-7EB7CC3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59EA7-651B-42A5-94C1-E5C47E5D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3DFDF-CE30-469D-BF28-C253A2FB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E8118-BF26-4769-B2C5-B05E4744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54AD3-4278-4718-B5C2-AC314406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F44E2-D81B-4C94-B70F-C15D67E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C8558-5701-4D17-B358-517087D9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0621C-9C64-4999-8484-18F7EB5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99031-1AE9-409E-A7D4-2760117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6940D-428A-4CA6-92E3-29C655DA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5806D-5E14-46ED-955E-557B1652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56175-4898-42B7-BE51-0C524F09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FEFB9-ECDF-4D8C-9E35-4A013B0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B90A1-6A14-408A-B036-9CB6A8A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9FBE4-D715-4642-886F-940BFA90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4EB8-3C28-42DA-A07E-2B0ECFD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2FA56-985B-417C-8312-744A0D72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F5E59-5841-4D23-8EFA-1B7D228C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824B8-8D4D-417C-83B6-2AB833EC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CCAE8-93C8-4B95-8A12-0CCC116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B5FC4-0708-45F6-953D-5C22AD70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9D3F9-0D9D-42B7-822C-2D5E341E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633BF-E129-4635-91C0-DF3C66A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CDC2D-F74A-490A-A99E-44BC52D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0CDAA-56E8-425F-B2BE-A41AC1D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704A7-D861-4C20-A843-2093EB6E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76131-DBAD-4864-AC49-BEAABDB77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5526F-1089-4454-8B09-25A206F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50606-6E4C-4EDC-86BE-109BD7C4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14A25-D213-4B36-8360-DE8E2F75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56263-4011-4E96-8968-36FF50F1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847CF-482D-4CEE-9317-B7D460D8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8CE79-2D3A-4BFA-8FF7-7E0FAD8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92EF5-F749-44D8-A5F5-45543ED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48971-F6E2-4383-BE95-C5634EBC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BF53C-8343-4E57-AED3-8477270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530E1-DD2A-4E4B-B66C-1657E5B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E6CDF-B4EE-4046-9B88-E2A069A8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04FEE-6426-4317-879C-50850C0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1A1DF-F9B6-4EBB-8FB7-FFC751B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D1B21F-46AC-43AA-8996-8976D39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FCFCF-085C-4424-9A4C-3E4B856F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10FA1-8B5B-4401-894A-8478AF03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94952-B0B2-496E-8416-F5DB280B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80CD5-B3DA-4CA1-9A3B-03C723AB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0D185-CFE8-42E5-BECC-CEFDB00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B6DB6B-F5BA-4741-A456-74A16F2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D130B-7B65-4986-AF20-B0153F24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5581D-9A53-4AEA-952E-E01C03A9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79FB3-1D67-459E-A132-9338B624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692BF-5BC9-4E9D-AD9E-67F33C7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2D5DF-9E1E-4149-9099-23E801A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65766-C8BB-4936-8709-7B97968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E66D0-370C-4BE9-90E2-0C1C7474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58794-8875-4B50-8B6F-62E92C4E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5CA8D-22B5-48B2-85DA-86EE8014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C65F1-1A89-439E-B9BD-35269FF2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1511F2-56A3-461C-A358-369F620B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EDD86-52E2-404A-8A1F-120E7ED1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4AEB4-6494-4178-9A9B-9BB990B4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65797-A3DD-4992-A0EB-ECB5CB3C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BBFF1-535F-47C4-AC4E-8C72A965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A25B4-AACA-46C6-A7A5-6BA3AD63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9D70E-E1AB-4E3B-BBD5-F87543F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A4560-373C-4B1D-B5FE-1D2113A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FEAD5-6BD7-474C-8940-0CE77BD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F0D61B-7413-433D-B0D4-82A23C9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300B6-20EE-4D7A-AEFE-9D45BC06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4105E-F2AC-413E-BC20-F10A3258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B89AB-1EC6-4ED5-8EE6-B4FAA225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221D-198B-4214-91F1-A4314322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7F807-8E00-4DDD-B132-1D7A0FBF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91E8C-DB0D-4463-9D1F-8A87B18D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933AB-D016-441B-B759-14F55FA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A2624-CE72-48B0-A518-C792EE6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3E104-251A-43FD-A993-9F194CD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2444A-DE1C-4166-B79C-0B39682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5E62A-D415-4E9C-A22D-17B85B3B5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1605-D818-4ED8-8A0C-BD3A70DDC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1F8C-9763-4F59-AEE3-11E09D4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8ED0-EEC4-4D77-8422-54B1D75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5E3E-A030-4445-A63F-8C0F3BF0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E6F5-63A9-4093-9F59-BEA957E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DF75-25E8-4F27-AD04-4DB86F05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E613-B6F1-4B8F-8254-2989D319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4259-A4CC-41F3-93F6-BB20408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9BC9-5B7B-4DE6-9F5F-7B4E6C5C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31F1-C5DC-4CBF-B77A-832C092C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9E67-B75D-4A02-9004-C3F0AB4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631D-FADA-428A-9A2A-B8AEAF9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3DC0-5BAE-445E-9804-3F8A34A09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AEBA2-575E-41BF-B004-EC39D6A9B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84B6-AE24-4605-9256-668C56D6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9FF2F9-679D-4179-8E8B-2F497DE7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FBDFD-2BA5-49B0-8923-283A19C9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AAB18-984D-43E8-939C-CEE96F2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ED4A4-3823-4E07-BA95-8C524CC1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1C490-0AE1-442C-A138-4900A129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57B61-4A3E-4C90-B0E8-70C5343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9F5BA-2CBA-4F1A-8A69-816239DB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EC6C5-DDF3-4615-B7D2-19CCCC8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CAF76-37E8-4370-8A84-C2F605D7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2DC63-525C-42D8-A518-DE4014C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E5C8-7D7E-4A60-955E-4861C080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D74CA-2D2D-426F-8C91-C9079641F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49CF60-1EBE-4627-BED5-C546A7ABB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F2B6D-2186-4595-AB6F-0400F6DE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0617BC-658D-4A41-987D-43E22B6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E1DBB-7C04-4A0E-A42E-F2708EFD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AF25E-97CA-4BC6-8978-9827CF75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3EF30-4F3E-4BE3-96FB-24047828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539CA-8DEB-420B-9B23-CB745C9D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CEB24-0490-408E-9749-FA9102AC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57DD0-8921-4113-BFCD-9910974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964D-2383-4ACD-893D-57F45D4D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8B577B-29E7-4BFE-9652-30F7AB8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1898CF-7E81-459D-B5D5-3CE006E9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4C256-6A2B-4E77-8769-3C5A6E4CA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37B1-3D40-46D2-8822-F362791AB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34A83-59E1-44B6-842C-87DED01F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1966-B392-4BF8-ADA8-5DB3DD21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B7093-57F6-45DB-853B-47AD1DE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BEA4-F6F5-48B9-94D2-7643C23D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1661-9D79-4E8F-8B71-7B8D0A92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D642-0E57-4307-8B1D-13473D6E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49C2-E7C1-4B38-AA58-F5BF0251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134C-0DB7-4178-B786-26B27CDC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D73C-3699-404F-B6BB-C6051DB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61EE3-1784-46E9-875D-080C997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835C-49CB-4454-9184-F9C02EB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A952-6910-4938-9711-0991D3114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CD75F-0CC7-40AC-8BA0-B82A92A98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12381-ED06-4F71-AE69-BDEBD6E1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00045-B870-42D7-9BF1-91D5482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94301-D0C9-4E0B-A35F-576BA31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CC780-4A84-488C-AD95-D9A0B638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ACAD-989D-4DD8-B322-33A45E3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36E05-E0FE-4CE0-8F78-2259B7CA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065AC-87F7-4A7C-B51F-2AE514E3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2886D-0A8F-4EBA-9F68-6FF28BCE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9EB9F-4775-4833-B734-BB448CA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3FA9B-B5B1-4155-9EC3-7536882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9EEE6-84F8-480C-8608-78021D3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74023-166A-45C0-91DF-F80F32C8C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DCF5F8-D693-4EE8-B917-7A6A04D1C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02D2C8-B967-4C5D-9AA6-57A54ABD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1AEBD-7BA5-4CB6-82C2-54CDCE5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7C3-2421-45A1-96E3-1EF9601385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6DA6-0029-464F-8334-718C763E43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7A5E-1C0B-479E-BD88-06DA7B15E8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9A3C-2454-44BD-8083-5CA2695471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05A4-A51D-44E2-B29F-30EA2A8908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CCA-6D92-4336-ADD4-88B9D418FB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33D-7E25-4004-A7C3-2F84346FFC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8641-F79D-49A9-A2C6-9B92256787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C548-A3F3-461A-AE56-4EEF5C9E29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388-1F81-4BBE-A41F-D7A6383A09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35D-2F6B-4D59-A2B0-EF68657F91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9B5-FF6B-4432-A3E4-B372851E4A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573-087D-4BAB-9D35-007A21C837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5A61-1529-48C7-96AC-BBF78A3718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D163-DDEF-4A03-A169-F4C313CAEF0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17A1-F51B-4A8E-B50A-72EC0A2008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8C1-5CF8-4156-816B-5FCC03F7F73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D5F-7C98-4967-9466-E98BCB7FAE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4812-0F47-4F0E-895E-42A69B5CC0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E17-14CE-4AEC-8198-FEB6768BFC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6D1B-0052-4DCA-9CE6-37A00C8CBB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A103-BE09-4703-8A2D-D5DCB05936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9E75-A4D0-40A7-B95C-677C1943BA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3814-662A-429B-AA6E-C49FEB5B3B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490760" y="292428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 内 的  加 法 和 减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31720" y="2441160"/>
            <a:ext cx="6490080" cy="360"/>
            <a:chOff x="2331720" y="2441160"/>
            <a:chExt cx="6490080" cy="360"/>
          </a:xfrm>
        </p:grpSpPr>
        <p:sp>
          <p:nvSpPr>
            <p:cNvPr id="990" name="Line 10"/>
            <p:cNvSpPr/>
            <p:nvPr/>
          </p:nvSpPr>
          <p:spPr>
            <a:xfrm>
              <a:off x="2332080" y="2441520"/>
              <a:ext cx="64897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31720" y="2440800"/>
              <a:ext cx="648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99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0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2"/>
          <p:cNvSpPr/>
          <p:nvPr/>
        </p:nvSpPr>
        <p:spPr>
          <a:xfrm>
            <a:off x="179280" y="982800"/>
            <a:ext cx="8785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笔算两位数加、减法应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9+59=    19+32=     47+25=      23+3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-26=    61-18=     96-39=      70-2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5"/>
          <p:cNvSpPr/>
          <p:nvPr/>
        </p:nvSpPr>
        <p:spPr>
          <a:xfrm>
            <a:off x="1774800" y="18288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7"/>
          <p:cNvSpPr/>
          <p:nvPr/>
        </p:nvSpPr>
        <p:spPr>
          <a:xfrm>
            <a:off x="2411280" y="4321080"/>
            <a:ext cx="64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8"/>
          <p:cNvSpPr/>
          <p:nvPr/>
        </p:nvSpPr>
        <p:spPr>
          <a:xfrm>
            <a:off x="2563920" y="4662360"/>
            <a:ext cx="647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10"/>
          <p:cNvSpPr/>
          <p:nvPr/>
        </p:nvSpPr>
        <p:spPr>
          <a:xfrm>
            <a:off x="1860480" y="270972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1"/>
          <p:cNvSpPr/>
          <p:nvPr/>
        </p:nvSpPr>
        <p:spPr>
          <a:xfrm>
            <a:off x="7740720" y="1835280"/>
            <a:ext cx="56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2"/>
          <p:cNvSpPr/>
          <p:nvPr/>
        </p:nvSpPr>
        <p:spPr>
          <a:xfrm>
            <a:off x="5562720" y="182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4"/>
          <p:cNvSpPr/>
          <p:nvPr/>
        </p:nvSpPr>
        <p:spPr>
          <a:xfrm>
            <a:off x="3646440" y="182736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5"/>
          <p:cNvSpPr/>
          <p:nvPr/>
        </p:nvSpPr>
        <p:spPr>
          <a:xfrm>
            <a:off x="77248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6"/>
          <p:cNvSpPr/>
          <p:nvPr/>
        </p:nvSpPr>
        <p:spPr>
          <a:xfrm>
            <a:off x="5602320" y="2700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7"/>
          <p:cNvSpPr/>
          <p:nvPr/>
        </p:nvSpPr>
        <p:spPr>
          <a:xfrm>
            <a:off x="3591000" y="2700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8"/>
          <p:cNvSpPr/>
          <p:nvPr/>
        </p:nvSpPr>
        <p:spPr>
          <a:xfrm>
            <a:off x="274680" y="3398760"/>
            <a:ext cx="856944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练习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+24+48=      75-26-35=       42+27-5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9"/>
          <p:cNvSpPr/>
          <p:nvPr/>
        </p:nvSpPr>
        <p:spPr>
          <a:xfrm>
            <a:off x="2268360" y="42670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0"/>
          <p:cNvSpPr/>
          <p:nvPr/>
        </p:nvSpPr>
        <p:spPr>
          <a:xfrm>
            <a:off x="4932360" y="42688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1"/>
          <p:cNvSpPr/>
          <p:nvPr/>
        </p:nvSpPr>
        <p:spPr>
          <a:xfrm>
            <a:off x="7812000" y="4267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矩形 1"/>
          <p:cNvSpPr/>
          <p:nvPr/>
        </p:nvSpPr>
        <p:spPr>
          <a:xfrm>
            <a:off x="179280" y="1268280"/>
            <a:ext cx="86439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8+16=      54+29=    36+58=     62+31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7-29=      61-34=    73-43=     90-2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-17=      52+34=     93-46=     38+4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29+35+9=       97-25-47=         53-9-3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5-46+31=      48+26-39=         53-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+3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"/>
          <p:cNvSpPr/>
          <p:nvPr/>
        </p:nvSpPr>
        <p:spPr>
          <a:xfrm>
            <a:off x="1731960" y="12510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3597120" y="12682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5165640" y="12510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6935760" y="12762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"/>
          <p:cNvSpPr/>
          <p:nvPr/>
        </p:nvSpPr>
        <p:spPr>
          <a:xfrm>
            <a:off x="1660680" y="20430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7"/>
          <p:cNvSpPr/>
          <p:nvPr/>
        </p:nvSpPr>
        <p:spPr>
          <a:xfrm>
            <a:off x="3576600" y="20271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"/>
          <p:cNvSpPr/>
          <p:nvPr/>
        </p:nvSpPr>
        <p:spPr>
          <a:xfrm>
            <a:off x="5094360" y="20430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9"/>
          <p:cNvSpPr/>
          <p:nvPr/>
        </p:nvSpPr>
        <p:spPr>
          <a:xfrm>
            <a:off x="6935760" y="20685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0"/>
          <p:cNvSpPr/>
          <p:nvPr/>
        </p:nvSpPr>
        <p:spPr>
          <a:xfrm>
            <a:off x="1517760" y="2906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1"/>
          <p:cNvSpPr/>
          <p:nvPr/>
        </p:nvSpPr>
        <p:spPr>
          <a:xfrm>
            <a:off x="3387600" y="29462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5135400" y="2957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3"/>
          <p:cNvSpPr/>
          <p:nvPr/>
        </p:nvSpPr>
        <p:spPr>
          <a:xfrm>
            <a:off x="6935760" y="29322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4"/>
          <p:cNvSpPr/>
          <p:nvPr/>
        </p:nvSpPr>
        <p:spPr>
          <a:xfrm>
            <a:off x="1979640" y="4076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5"/>
          <p:cNvSpPr/>
          <p:nvPr/>
        </p:nvSpPr>
        <p:spPr>
          <a:xfrm>
            <a:off x="4498920" y="40766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6"/>
          <p:cNvSpPr/>
          <p:nvPr/>
        </p:nvSpPr>
        <p:spPr>
          <a:xfrm>
            <a:off x="7162920" y="4076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7"/>
          <p:cNvSpPr/>
          <p:nvPr/>
        </p:nvSpPr>
        <p:spPr>
          <a:xfrm>
            <a:off x="2195640" y="52293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8"/>
          <p:cNvSpPr/>
          <p:nvPr/>
        </p:nvSpPr>
        <p:spPr>
          <a:xfrm>
            <a:off x="4498920" y="52293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>
            <a:off x="7810560" y="52293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44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6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矩形 2"/>
          <p:cNvSpPr/>
          <p:nvPr/>
        </p:nvSpPr>
        <p:spPr>
          <a:xfrm>
            <a:off x="357120" y="1214280"/>
            <a:ext cx="7643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828720" y="105408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147636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>
            <a:off x="468360" y="2492280"/>
            <a:ext cx="2000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826920" y="3284640"/>
            <a:ext cx="50040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"/>
          <p:cNvSpPr/>
          <p:nvPr/>
        </p:nvSpPr>
        <p:spPr>
          <a:xfrm>
            <a:off x="1476360" y="400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2"/>
          <p:cNvSpPr/>
          <p:nvPr/>
        </p:nvSpPr>
        <p:spPr>
          <a:xfrm>
            <a:off x="46836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5"/>
          <p:cNvSpPr/>
          <p:nvPr/>
        </p:nvSpPr>
        <p:spPr>
          <a:xfrm>
            <a:off x="341964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6"/>
          <p:cNvSpPr/>
          <p:nvPr/>
        </p:nvSpPr>
        <p:spPr>
          <a:xfrm>
            <a:off x="2411280" y="2492280"/>
            <a:ext cx="2000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7"/>
          <p:cNvSpPr/>
          <p:nvPr/>
        </p:nvSpPr>
        <p:spPr>
          <a:xfrm>
            <a:off x="2914560" y="328464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8"/>
          <p:cNvSpPr/>
          <p:nvPr/>
        </p:nvSpPr>
        <p:spPr>
          <a:xfrm>
            <a:off x="3419640" y="400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9"/>
          <p:cNvSpPr/>
          <p:nvPr/>
        </p:nvSpPr>
        <p:spPr>
          <a:xfrm>
            <a:off x="241128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0"/>
          <p:cNvSpPr/>
          <p:nvPr/>
        </p:nvSpPr>
        <p:spPr>
          <a:xfrm>
            <a:off x="543564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21"/>
          <p:cNvSpPr/>
          <p:nvPr/>
        </p:nvSpPr>
        <p:spPr>
          <a:xfrm>
            <a:off x="4427640" y="2492280"/>
            <a:ext cx="2000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22"/>
          <p:cNvSpPr/>
          <p:nvPr/>
        </p:nvSpPr>
        <p:spPr>
          <a:xfrm>
            <a:off x="4788000" y="328464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23"/>
          <p:cNvSpPr/>
          <p:nvPr/>
        </p:nvSpPr>
        <p:spPr>
          <a:xfrm>
            <a:off x="5435640" y="40068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24"/>
          <p:cNvSpPr/>
          <p:nvPr/>
        </p:nvSpPr>
        <p:spPr>
          <a:xfrm>
            <a:off x="457200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25"/>
          <p:cNvSpPr/>
          <p:nvPr/>
        </p:nvSpPr>
        <p:spPr>
          <a:xfrm>
            <a:off x="774072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6"/>
          <p:cNvSpPr/>
          <p:nvPr/>
        </p:nvSpPr>
        <p:spPr>
          <a:xfrm>
            <a:off x="6804000" y="2492280"/>
            <a:ext cx="2000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27"/>
          <p:cNvSpPr/>
          <p:nvPr/>
        </p:nvSpPr>
        <p:spPr>
          <a:xfrm>
            <a:off x="7164360" y="328464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8"/>
          <p:cNvSpPr/>
          <p:nvPr/>
        </p:nvSpPr>
        <p:spPr>
          <a:xfrm>
            <a:off x="7763040" y="4032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29"/>
          <p:cNvSpPr/>
          <p:nvPr/>
        </p:nvSpPr>
        <p:spPr>
          <a:xfrm>
            <a:off x="680400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30"/>
          <p:cNvSpPr/>
          <p:nvPr/>
        </p:nvSpPr>
        <p:spPr>
          <a:xfrm>
            <a:off x="3708360" y="544500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答案略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31"/>
          <p:cNvSpPr/>
          <p:nvPr/>
        </p:nvSpPr>
        <p:spPr>
          <a:xfrm>
            <a:off x="324000" y="10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里能填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7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8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9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92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00" name="Picture 5" descr="D:\我的文档-桌面-收藏夹\桌面\185a5b2649304c939f242d50860a096d.jpg"/>
          <p:cNvPicPr/>
          <p:nvPr/>
        </p:nvPicPr>
        <p:blipFill>
          <a:blip r:embed="rId8"/>
          <a:srcRect l="0" t="0" r="561" b="7286"/>
          <a:stretch/>
        </p:blipFill>
        <p:spPr>
          <a:xfrm>
            <a:off x="6286680" y="143208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D:\我的文档-桌面-收藏夹\桌面\300001051406131944152053756.jpg"/>
          <p:cNvPicPr/>
          <p:nvPr/>
        </p:nvPicPr>
        <p:blipFill>
          <a:blip r:embed="rId9"/>
          <a:stretch/>
        </p:blipFill>
        <p:spPr>
          <a:xfrm>
            <a:off x="3857760" y="1484280"/>
            <a:ext cx="1643040" cy="1467000"/>
          </a:xfrm>
          <a:prstGeom prst="rect">
            <a:avLst/>
          </a:prstGeom>
          <a:ln w="0">
            <a:noFill/>
          </a:ln>
        </p:spPr>
      </p:pic>
      <p:sp>
        <p:nvSpPr>
          <p:cNvPr id="1102" name="矩形 1"/>
          <p:cNvSpPr/>
          <p:nvPr/>
        </p:nvSpPr>
        <p:spPr>
          <a:xfrm>
            <a:off x="357120" y="644400"/>
            <a:ext cx="83581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海洋馆里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条黄金神仙鱼，花面神仙比黄金神仙鱼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条，透红小丑鱼比黄金鱼少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3" descr="D:\我的文档-桌面-收藏夹\桌面\xin_411202280941688314433.jpg"/>
          <p:cNvPicPr/>
          <p:nvPr/>
        </p:nvPicPr>
        <p:blipFill>
          <a:blip r:embed="rId10"/>
          <a:srcRect l="0" t="5002" r="28593" b="0"/>
          <a:stretch/>
        </p:blipFill>
        <p:spPr>
          <a:xfrm>
            <a:off x="1428840" y="1486080"/>
            <a:ext cx="1657440" cy="1500120"/>
          </a:xfrm>
          <a:prstGeom prst="rect">
            <a:avLst/>
          </a:prstGeom>
          <a:ln w="0">
            <a:noFill/>
          </a:ln>
        </p:spPr>
      </p:pic>
      <p:sp>
        <p:nvSpPr>
          <p:cNvPr id="1104" name="圆角矩形 3"/>
          <p:cNvSpPr/>
          <p:nvPr/>
        </p:nvSpPr>
        <p:spPr>
          <a:xfrm>
            <a:off x="1442880" y="3003480"/>
            <a:ext cx="16434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黄金神仙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圆角矩形 5"/>
          <p:cNvSpPr/>
          <p:nvPr/>
        </p:nvSpPr>
        <p:spPr>
          <a:xfrm>
            <a:off x="3857760" y="295272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花面神仙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矩形 9"/>
          <p:cNvSpPr/>
          <p:nvPr/>
        </p:nvSpPr>
        <p:spPr>
          <a:xfrm>
            <a:off x="6286680" y="300348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红小丑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2"/>
          <p:cNvSpPr/>
          <p:nvPr/>
        </p:nvSpPr>
        <p:spPr>
          <a:xfrm>
            <a:off x="500040" y="3575160"/>
            <a:ext cx="83581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花面神仙鱼有多少条？两种神仙鱼共有多少条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其他数学问题并解答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13"/>
          <p:cNvSpPr/>
          <p:nvPr/>
        </p:nvSpPr>
        <p:spPr>
          <a:xfrm>
            <a:off x="1285920" y="4111560"/>
            <a:ext cx="742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3+9=2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条）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2+13=3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条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花面神仙鱼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条。两种神仙鱼共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14"/>
          <p:cNvSpPr/>
          <p:nvPr/>
        </p:nvSpPr>
        <p:spPr>
          <a:xfrm>
            <a:off x="1860480" y="5178600"/>
            <a:ext cx="3857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透红小丑鱼有多少条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3-8=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条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透红小丑鱼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矩形 1"/>
          <p:cNvSpPr/>
          <p:nvPr/>
        </p:nvSpPr>
        <p:spPr>
          <a:xfrm>
            <a:off x="357120" y="430200"/>
            <a:ext cx="2571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朋友跳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57160" y="1120680"/>
          <a:ext cx="6357960" cy="1093680"/>
        </p:xfrm>
        <a:graphic>
          <a:graphicData uri="http://schemas.openxmlformats.org/drawingml/2006/table">
            <a:tbl>
              <a:tblPr/>
              <a:tblGrid>
                <a:gridCol w="1589040"/>
                <a:gridCol w="1589040"/>
                <a:gridCol w="1590840"/>
                <a:gridCol w="1589040"/>
              </a:tblGrid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青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东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2" name="矩形 3"/>
          <p:cNvSpPr/>
          <p:nvPr/>
        </p:nvSpPr>
        <p:spPr>
          <a:xfrm>
            <a:off x="571680" y="2143080"/>
            <a:ext cx="78642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小强比小丁少跳了多少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小强和小青一共跳了多少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什么问题？并列出算式进行计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4"/>
          <p:cNvSpPr/>
          <p:nvPr/>
        </p:nvSpPr>
        <p:spPr>
          <a:xfrm>
            <a:off x="1785960" y="2736720"/>
            <a:ext cx="242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-45=1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下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5"/>
          <p:cNvSpPr/>
          <p:nvPr/>
        </p:nvSpPr>
        <p:spPr>
          <a:xfrm>
            <a:off x="1785960" y="3808440"/>
            <a:ext cx="242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+36=8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下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6"/>
          <p:cNvSpPr/>
          <p:nvPr/>
        </p:nvSpPr>
        <p:spPr>
          <a:xfrm>
            <a:off x="1714680" y="5000760"/>
            <a:ext cx="5143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小东和小丁一共跳了多少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3+60=11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下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小东和小丁一共跳了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1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117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8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119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1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2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5:28:00Z</dcterms:created>
  <dc:creator/>
  <dc:description/>
  <dc:language>en-US</dc:language>
  <cp:lastModifiedBy>万润仪器贸易公司</cp:lastModifiedBy>
  <dcterms:modified xsi:type="dcterms:W3CDTF">2020-08-21T00:45:4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